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60E-42AF-46F3-A1D9-CA84F03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A24-E556-4DB3-920D-16E100A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4DE-AA06-4531-A630-626AB82F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F3C-C6EB-4B81-BD5D-3850F677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D0E-6A51-48E5-BDF9-2C12B1C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9C4-6DC2-44BC-B53B-25B2855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84D-C041-41AA-878A-1EDE7D63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179-F1E3-4BC5-BA71-06E71A2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A2A-8A5C-4779-AAFD-1C764DD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560-0491-4FD0-9F97-2C0FBE7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F4E-E238-4AA5-A117-F2A7A75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61F-A557-4047-AA18-9C65ABD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267-7CEF-4CB1-9B9C-AC9DA726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0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ANSWER MY QUESTIONS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184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70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What do we call a young ins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y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40:06Z</dcterms:created>
  <dc:creator>justin.lang</dc:creator>
  <dc:description/>
  <dc:language>en-US</dc:language>
  <cp:lastModifiedBy>justin.lang</cp:lastModifiedBy>
  <dcterms:modified xsi:type="dcterms:W3CDTF">2009-06-16T00:51:56Z</dcterms:modified>
  <cp:revision>2</cp:revision>
  <dc:subject/>
  <dc:title>ANSWER MY QUESTIONS!!!!</dc:title>
</cp:coreProperties>
</file>